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006A-ECE1-47BA-B8EC-D9466C13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F6FC-98DF-4D47-A93E-8023CCF9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5D4E-43F9-4255-8738-3511C17E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DAF0-A641-4B70-80F1-3F96850E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5E05-6847-41DF-A1F4-36A88694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687F-663F-4F34-AA9B-63A01660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306F-7919-4733-B6B2-1A91D5D5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2B69-D68D-4483-9273-6CA42C94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8BA3-47EB-4370-AEF8-0A0802E3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BA71-1D20-4EC9-8FFC-58F25E20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B0A1-24AA-41FE-9449-2AA96248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33C8-FE0B-4382-AB37-2101FBA3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5860-9AB4-4810-ACF1-79902E07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9AD2-DCF2-4294-858B-5117EDF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24B9-9924-47E4-800F-28E825EF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A153-EC8A-4DEB-94DE-0AAEEDE7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FAAC-5027-4FA5-BE5E-3E33A1A4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45B7-C0CD-489F-8740-11759D03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B7C6-F82B-4751-8029-0B36C496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3D22-5D5B-4D5A-BB2B-89C8015C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A9E5-F149-4FFF-B3EF-50F1A547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A564-C28B-44A3-A815-5940BDE4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3AD5-14F9-403D-A73A-B6034441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61EAE-800C-4B62-91D0-DB6C5A7B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F46A-4EC9-40A0-AED0-84F5990B8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590F-2D10-4EF7-B752-10E31BBD7A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fine cipher is another version of a substitution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tter is assigned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umbers are selected (a, b) between 0 and 25 such that the gcd(a,26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 and c represent letters (p,c are numbers between 0 and 26) where p is a plaintext letter and c is a ciphertext letter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13440" y="4905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ap + b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24240" y="55515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 = 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c - b)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E09B-F9C5-4BC4-86EF-321A4F860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key (a,b) = (7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d(7,26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6 = 15 (since 7 x 15 = 105 and 105 mod 26 =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4880" y="3535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The general encipher/decipher equa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5960" y="40878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7p + 3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4552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hot” is 7 14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33040" y="506412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h)     = 7*7 + 3 mod 26 = 52 mod 26 = 0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33040" y="545940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o) = 7*14 + 3 mod 26 = 98 mod 26 = 23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84820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t)  = 7*19 + 3 mod 26 = 133 mod 26 = 6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55600" y="6246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F1CB-1D83-4E6F-88FB-97C604131A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Cipher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5708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Affine option under the cipher menu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0160" y="2886120"/>
            <a:ext cx="7283520" cy="322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43640" y="2766960"/>
            <a:ext cx="1164960" cy="784440"/>
          </a:xfrm>
          <a:prstGeom prst="wedgeRoundRectCallout">
            <a:avLst>
              <a:gd name="adj1" fmla="val -45097"/>
              <a:gd name="adj2" fmla="val 6538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 the two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35040" y="2305080"/>
            <a:ext cx="1165320" cy="614160"/>
          </a:xfrm>
          <a:prstGeom prst="wedgeRoundRectCallout">
            <a:avLst>
              <a:gd name="adj1" fmla="val -45097"/>
              <a:gd name="adj2" fmla="val 972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ill set up you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0000" y="2287440"/>
            <a:ext cx="1560600" cy="890640"/>
          </a:xfrm>
          <a:prstGeom prst="wedgeRoundRectCallout">
            <a:avLst>
              <a:gd name="adj1" fmla="val -55699"/>
              <a:gd name="adj2" fmla="val 9706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ror message if you fail to select the correct key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06280" y="620388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802A-9BD3-4932-A034-1888C1D278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0T08:51:09Z</dcterms:modified>
  <cp:revision>45</cp:revision>
  <dc:subject/>
  <dc:title>CAP Cryptographic Analysis Program</dc:title>
</cp:coreProperties>
</file>